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D6E-A88D-4C0E-8690-B8CA4398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265-3FD4-471E-A78A-4B6D7EA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583-148D-4F12-AD50-93CA8CBF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361-4599-4779-BAAC-6D88A77A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BB0-6448-415C-BA0A-BE301B1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9E8-FF70-416B-A7E7-93AA4DB7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4D3-E9B9-4D2B-BE58-39A9F3F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43A-2F79-478C-8F72-AD454FF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B77-DF3B-41B1-932A-75D49DD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DF5-4914-488D-B42F-7DB0825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441-1053-4A2C-94D9-AFA651C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DB4-E61A-47D3-BE97-0BB59ED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FD3-CC5A-48FD-85D6-4C10CA6919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685800"/>
            <a:ext cx="6400800" cy="50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838080"/>
            <a:ext cx="6400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6094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1371600" y="762120"/>
            <a:ext cx="624852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39742" r="0" b="31456"/>
          <a:stretch/>
        </p:blipFill>
        <p:spPr>
          <a:xfrm>
            <a:off x="1371600" y="3962520"/>
            <a:ext cx="624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600200" y="14479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182"/>
          <a:stretch/>
        </p:blipFill>
        <p:spPr>
          <a:xfrm>
            <a:off x="1371600" y="8380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853920"/>
            <a:ext cx="6629400" cy="508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54864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1440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371600" y="838080"/>
            <a:ext cx="670572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3960" y="4114800"/>
            <a:ext cx="55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ample sizes here ( 75 and 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n’t very different, so an arithm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using equal weights seems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1143000" y="838080"/>
            <a:ext cx="6781680" cy="49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495680"/>
            <a:ext cx="43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ithmetic average: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3:14Z</dcterms:modified>
  <cp:revision>218</cp:revision>
  <dc:subject/>
  <dc:title>Slide 1</dc:title>
</cp:coreProperties>
</file>